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AF0B-2580-4AC0-BD6F-8FEFE221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C1AC-DE8B-464D-BD35-6CC7BA0950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F764-785E-4688-871A-561F7404A8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8594-117F-44EA-BBC7-9D9FED72B0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5936-1A69-4FC4-B344-BC03CEE128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6437-E6F0-4862-9F2D-4252D466F0C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952-BB0C-4059-AEAC-1AB85AF964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C05C-1FE9-4EC3-8A20-E18726E5AA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B593-1071-45CA-A86B-C3458669AF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7013-6198-4C04-A4B8-7EFA627FAF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C202-DA7D-4905-B777-1F860A58D1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071-5282-451E-8C12-40F5A44B76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B34E-1D14-4B5C-BD43-01F4F2333D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B4BC-8FE0-46F4-AB70-C129B43C5C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BB16-0E14-46C2-AD78-FB394FE912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CB79-AEB3-4506-B7EC-C1CFD3342E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2A07-12AB-4235-903E-FF3545BEC2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82FC-058F-4850-8BC5-BBEBF89D8A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D828-C4B7-4BD4-89B8-1B35251E93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4703-4FA9-4BC1-9A0F-E2586635D2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B85E-BE0E-4A87-B92F-D95ADB0CA1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DC2D-E6C8-4120-9056-60A8C27904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8AD7-4B56-433E-86A2-8C895A3C98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694E-AC84-40F9-A67F-FF1276A319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52BB-7C45-4F44-813C-DCC609AA5D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6DB0-44CB-408D-804C-8BD0BACEA4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5A4A-731D-4903-AC34-85FAABE39C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E27F-318C-434E-9F13-892A424126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538-DF9E-4111-9B68-1FFEB8026A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8F17-20CE-45AD-AF38-306FC8F886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2777-2FB1-47CB-8059-CF84E5E7EC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9B7C-E594-4119-992C-02576DEB559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FF18-4BFF-4A64-B982-DADE7AEE57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: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7F38-9F14-4219-9649-BC5C8A3F3F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5111-238A-4A31-B703-9E5676E8F2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224-4F09-4EBD-875C-8BCF3AD25E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9954-B5CE-431A-B603-0D0BDF498F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B017-9389-46B5-925A-54B584F43A9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2523-BAD2-474D-929A-E4AD55D467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E623-866C-4A01-8C9D-018305319F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0F2F-42B7-441F-B643-CFD627F5D0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2051-7555-4D84-98E6-B637E902C3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E14A-30C0-4B28-A44D-11571CE2B6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1F1F-7632-4F1D-9FD2-93631659DE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C7D-C0C1-42B1-BC95-6109103061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05AB-C6C8-43A5-8D99-03DDC01A1A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223D-44D5-44A8-83F9-9DA8559F7FE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DB12-C15D-461F-B631-386FE4444D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C59F-DC0F-4FAB-BC4B-5C1D969975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5D5-F697-4E00-B89E-A04AA87E3F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1B87-24B1-4951-A09F-469B590013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51FD-C53A-4C5E-9BD9-2819B5A3D9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58F-50D3-4A20-955F-57FAD536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6B9-845B-4D59-A1C4-96D5AB5A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901-E6C5-4DF3-99BF-D5570EBA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434-81E6-48B7-AC95-3BC7428D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28D-011C-4996-92E3-E66FCEAA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A59-8D42-46CA-95C8-0E39895B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AFE-D99B-45BA-AE8C-D9E1992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DD4-A964-42B8-970A-1DBE8DC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916-27F6-41AA-8159-2E328FD9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AF6-EF80-474A-96FD-8A70690F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166F-2CF9-440D-823B-9FC05F8A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B14-D8B2-411A-B53A-0B3080FD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95F5-847D-41CE-9681-002D73042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localhost/Users/amkohnen/Dropbox/Missouri%20State/OWP/i3/Monett%20PD/2013.10.18/Criteria.docx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localhost/Users/amkohnen/Dropbox/Missouri%20State/OWP/i3/lesson%20plans%20for%20binder/Applying%20Criteria%20to%20a%20Data%20Set.docx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arkscrwp.wikispaces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3 grant: College-Ready Writ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3040" y="3889440"/>
            <a:ext cx="63979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Session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Mone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R-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October 18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WP Icon"/>
          <p:cNvPicPr/>
          <p:nvPr/>
        </p:nvPicPr>
        <p:blipFill>
          <a:blip r:embed="rId1"/>
          <a:stretch/>
        </p:blipFill>
        <p:spPr>
          <a:xfrm>
            <a:off x="3048120" y="762120"/>
            <a:ext cx="29462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ing our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57200" y="1752480"/>
            <a:ext cx="8229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ilently reread your response to the first prompt (one thing I’ve tried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Underline something you want to share—a maximum of one sent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Whip 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ebrating our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457200" y="175248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Is this the same thing as the lesson plan you brou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Lunch: 1 hour—time to connect and share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our 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380880" y="1143000"/>
            <a:ext cx="8229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your gro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termine who will go fir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oever has the next birthday will be 1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irst person speaks for 1 min about his/he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roup members, listen. Some of you will be asked to share what one of your group members has 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f the person stops talking before time is called, group members ask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peat with person 2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ng ou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457200" y="137160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lently reread your response to free-writing prompt 3 (my biggest challenge is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urn this free-write into a question you would like your group to 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ng ou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457200" y="13716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view the consultancy protocol (hand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3 rounds of consultanc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rief from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57200" y="137160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did the consultancy work for the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should the entire group h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problems are we fac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day, please add challenges in the form of questions to the “challenges” char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380880" y="137160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trooms are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ease enjoy mor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will reconvene at 9: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en you return, please form a group of 4 with entirely new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: Arguments of Ju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uments of Ju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his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ted to the Believing and Doubting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ily adaptable to a variety of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ines a variety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receive a lesson plan handout at the 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your grou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 some time looking at the data. You may read silently and/or discuss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ind interesting? What question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com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enjoy som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sit in groups of 3. Try to include representatives from more than one building in you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ot need your computers right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find interes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ackle football too risky for children under 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ques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we decide if an activity is “too risky” for children under 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riteria do we use to make this judgmen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Criteria for Making Ju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groups, work together to come up with criteria for making this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hole Class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 the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: an arguable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s must be back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reate claims based on each of our crite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 the first Criter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arrant/Expla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 working with the remaining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with your group and fill in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have enough evidence, write “not enough evidence” and brainstorm what evidence you need and where you would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le class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assign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argument of judgment based on your worksheet answering this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ackle football too risky for children under 1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ding to your 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45720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you lik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lieving and Doub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you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trategies, strategies,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ime to discuss th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ime to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: Name it and Claim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457200" y="990720"/>
            <a:ext cx="82296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 it: Arguments of 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im It: Claim the activity for your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rainstorm for a moment how you could “claim” this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hare with you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your Discussion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into Plann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your goal, what do you want to do in the next few wee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need supp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stop at 12:00 to debrief the morning. Break, eat a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ch=12: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So Fast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b your lesson plan and come to the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your partner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t w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woul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source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463680" y="152388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uring this long lunch, please find at least two people to share lesson plans with. Discu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you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ow it wor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you woul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resources you hav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.00 Take Away (and fun with mat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457200" y="990720"/>
            <a:ext cx="82296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ch word is worth $.10 (articles are f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 have $2.00 to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is your take away from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activity has a high likelihood (define?) of serious injury or death—i.e., paralysis, dismemberment, it is too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$2.00 Take Away (and fun with mat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457200" y="990720"/>
            <a:ext cx="82296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ach word is worth $.10 (articles are fre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You have $2.00 to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is your take away from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ll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activity has a high likelihood (define?) of serious injury or death—i.e., paralysis, dismemberment, it is too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57200" y="99072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e will reconvene at 1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site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57200" y="1752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sider adding your content to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ww.ozarkscrwp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lleen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alibri"/>
                <a:ea typeface="Arial"/>
                <a:hlinkClick r:id="rId1"/>
              </a:rPr>
              <a:t>Further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OWP Icon"/>
          <p:cNvPicPr/>
          <p:nvPr/>
        </p:nvPicPr>
        <p:blipFill>
          <a:blip r:embed="rId2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736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 from the Mentor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80880" y="18954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uss what’s happening in your class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erience two strategies you coul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ink about where you want to go 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OWP Icon"/>
          <p:cNvPicPr/>
          <p:nvPr/>
        </p:nvPicPr>
        <p:blipFill>
          <a:blip r:embed="rId1"/>
          <a:stretch/>
        </p:blipFill>
        <p:spPr>
          <a:xfrm>
            <a:off x="6735600" y="578160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Without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609480" y="1905120"/>
            <a:ext cx="8229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urpose: to engage in an exercise featuring truisms, text structures, and kernel essays, embedded in a focused free-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purpose: to finish an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OWP Icon"/>
          <p:cNvPicPr/>
          <p:nvPr/>
        </p:nvPicPr>
        <p:blipFill>
          <a:blip r:embed="rId1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Without Form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beliefs about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belief, “truism,” true for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a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kernel e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write a first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OWP Icon"/>
          <p:cNvPicPr/>
          <p:nvPr/>
        </p:nvPicPr>
        <p:blipFill>
          <a:blip r:embed="rId1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Bus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457200" y="17524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ext Mentor Less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do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ow can we help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osition notebooks—who would like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aching resources—using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lassroom coaching/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 Busines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430200" y="1219320"/>
            <a:ext cx="84088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uat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eedback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nsent to use studen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search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r next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ring an idea for a writing assignment/activity that you would like to try second semester. Something brand new or a major modifications to something you’ve done in the past. Bring something printed out (doesn’t have to be final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OWP Icon"/>
          <p:cNvPicPr/>
          <p:nvPr/>
        </p:nvPicPr>
        <p:blipFill>
          <a:blip r:embed="rId1"/>
          <a:stretch/>
        </p:blipFill>
        <p:spPr>
          <a:xfrm>
            <a:off x="673416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-da-bing! -- Our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our feet w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you saw (heard, touc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at you th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th?id=H"/>
          <p:cNvPicPr/>
          <p:nvPr/>
        </p:nvPicPr>
        <p:blipFill>
          <a:blip r:embed="rId1"/>
          <a:stretch/>
        </p:blipFill>
        <p:spPr>
          <a:xfrm>
            <a:off x="601992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h?id=H"/>
          <p:cNvPicPr/>
          <p:nvPr/>
        </p:nvPicPr>
        <p:blipFill>
          <a:blip r:embed="rId2"/>
          <a:stretch/>
        </p:blipFill>
        <p:spPr>
          <a:xfrm>
            <a:off x="6934320" y="27432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th?id=H"/>
          <p:cNvPicPr/>
          <p:nvPr/>
        </p:nvPicPr>
        <p:blipFill>
          <a:blip r:embed="rId3"/>
          <a:stretch/>
        </p:blipFill>
        <p:spPr>
          <a:xfrm>
            <a:off x="6095880" y="4114800"/>
            <a:ext cx="1447920" cy="127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OWP Icon"/>
          <p:cNvPicPr/>
          <p:nvPr/>
        </p:nvPicPr>
        <p:blipFill>
          <a:blip r:embed="rId4"/>
          <a:stretch/>
        </p:blipFill>
        <p:spPr>
          <a:xfrm>
            <a:off x="6735600" y="579924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57200" y="685800"/>
            <a:ext cx="8153280" cy="73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We will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ree-write about our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hare what’s been happening in 3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ork with a data set to make an argument of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pend some time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xamine th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iscuss mentor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rite using text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(E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WP Icon"/>
          <p:cNvPicPr/>
          <p:nvPr/>
        </p:nvPicPr>
        <p:blipFill>
          <a:blip r:embed="rId1"/>
          <a:stretch/>
        </p:blipFill>
        <p:spPr>
          <a:xfrm>
            <a:off x="6724800" y="579924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/Non-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85800" y="1676520"/>
            <a:ext cx="82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urp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 To continue the process of reflecting and planning toward our individual and grant goals; to discuss successes and challe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Purpos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o solve all of our challe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OWP Icon"/>
          <p:cNvPicPr/>
          <p:nvPr/>
        </p:nvPicPr>
        <p:blipFill>
          <a:blip r:embed="rId1"/>
          <a:stretch/>
        </p:blipFill>
        <p:spPr>
          <a:xfrm>
            <a:off x="6724800" y="5773680"/>
            <a:ext cx="240804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th?id=H"/>
          <p:cNvPicPr/>
          <p:nvPr/>
        </p:nvPicPr>
        <p:blipFill>
          <a:blip r:embed="rId1"/>
          <a:stretch/>
        </p:blipFill>
        <p:spPr>
          <a:xfrm>
            <a:off x="5562720" y="457200"/>
            <a:ext cx="2971800" cy="2239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304920" y="17524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dd your name to the sign-in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ease set cell phones to vib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eel comfortable stepping outside when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se the 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arking Lot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for your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e appreciate your name ta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OWP Icon"/>
          <p:cNvPicPr/>
          <p:nvPr/>
        </p:nvPicPr>
        <p:blipFill>
          <a:blip r:embed="rId2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N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tart and end o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ar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abide by the protoco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be enthusiastic about new writing strate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are ideas and collaborate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rovide a safe environment for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encourage one another and respectfully acknowledge each other'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WP Icon"/>
          <p:cNvPicPr/>
          <p:nvPr/>
        </p:nvPicPr>
        <p:blipFill>
          <a:blip r:embed="rId1"/>
          <a:stretch/>
        </p:blipFill>
        <p:spPr>
          <a:xfrm>
            <a:off x="6400800" y="5562720"/>
            <a:ext cx="24084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OWP Icon"/>
          <p:cNvPicPr/>
          <p:nvPr/>
        </p:nvPicPr>
        <p:blipFill>
          <a:blip r:embed="rId1"/>
          <a:stretch/>
        </p:blipFill>
        <p:spPr>
          <a:xfrm>
            <a:off x="6756480" y="5799240"/>
            <a:ext cx="2408040" cy="1058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into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-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rand new thing 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 tried in my classroom related to writing/this PD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my goal from the year, my biggest success so far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ing my goal from the year, my biggest challeng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6T20:18:10Z</dcterms:created>
  <dc:creator>Colleen</dc:creator>
  <dc:description/>
  <dc:language>en-US</dc:language>
  <cp:lastModifiedBy>Angela Kohnen</cp:lastModifiedBy>
  <cp:lastPrinted>2013-10-18T10:33:29Z</cp:lastPrinted>
  <dcterms:modified xsi:type="dcterms:W3CDTF">2013-10-18T19:59:49Z</dcterms:modified>
  <cp:revision>156</cp:revision>
  <dc:subject/>
  <dc:title>i3 grant: College-Ready Writers</dc:title>
</cp:coreProperties>
</file>